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.png" ContentType="image/png"/>
  <Override PartName="/ppt/media/image24.jpeg" ContentType="image/jpeg"/>
  <Override PartName="/ppt/media/image3.jpeg" ContentType="image/jpeg"/>
  <Override PartName="/ppt/media/image37.jpeg" ContentType="image/jpeg"/>
  <Override PartName="/ppt/media/image35.jpeg" ContentType="image/jpeg"/>
  <Override PartName="/ppt/media/image10.jpeg" ContentType="image/jpeg"/>
  <Override PartName="/ppt/media/image29.jpeg" ContentType="image/jpeg"/>
  <Override PartName="/ppt/media/image9.jpeg" ContentType="image/jpeg"/>
  <Override PartName="/ppt/media/image11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13.jpeg" ContentType="image/jpeg"/>
  <Override PartName="/ppt/media/image40.jpeg" ContentType="image/jpeg"/>
  <Override PartName="/ppt/media/image44.jpeg" ContentType="image/jpeg"/>
  <Override PartName="/ppt/media/image43.jpeg" ContentType="image/jpeg"/>
  <Override PartName="/ppt/media/image34.png" ContentType="image/png"/>
  <Override PartName="/ppt/media/image12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91ECC-6B65-42E1-BF25-9838E9266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0F767-24CC-455D-9C7C-273C17D55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F3D52-EE74-44AA-BBEC-D7DE53F6A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70B5B-B4D6-4785-9321-804CB9691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ECAA8-DDAB-44AC-91C3-2BB5E03BE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39266-47AC-43B6-8859-0FCFB9B3D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62101-6750-4459-8A74-CC2FC3244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19B06-BDBF-46F3-A659-09EE145C5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F4D14-4890-4E70-ACDE-EBFE352AC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0AB8F-0D0B-477B-A30E-8A76C4BCD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4E515-E227-4A84-9469-3E144A681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A609E-58E1-4474-9697-1C3E869BE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677A6-B87C-48D9-AFE1-051A6CE14D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image" Target="../media/image43.jpeg"/><Relationship Id="rId5" Type="http://schemas.openxmlformats.org/officeDocument/2006/relationships/image" Target="../media/image44.jpeg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50920" y="3716280"/>
            <a:ext cx="6407280" cy="28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600" spc="-1" strike="noStrike">
                <a:solidFill>
                  <a:srgbClr val="000000"/>
                </a:solidFill>
                <a:latin typeface="Bodoni MT"/>
              </a:rPr>
              <a:t>España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68360" y="476280"/>
            <a:ext cx="4762440" cy="33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-176544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doni MT"/>
              </a:rPr>
              <a:t>Familia Real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4202280" y="3357720"/>
            <a:ext cx="4546440" cy="27270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4767120" y="324000"/>
            <a:ext cx="3981600" cy="288900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rcRect l="4913" t="0" r="6541" b="0"/>
          <a:stretch/>
        </p:blipFill>
        <p:spPr>
          <a:xfrm>
            <a:off x="324000" y="2060640"/>
            <a:ext cx="3744720" cy="31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79280" y="549360"/>
            <a:ext cx="8783640" cy="546732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403280" y="2060640"/>
            <a:ext cx="503280" cy="1224000"/>
          </a:xfrm>
          <a:prstGeom prst="lightningBol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9280" y="549360"/>
            <a:ext cx="4753080" cy="115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Bodoni MT"/>
              </a:rPr>
              <a:t>El tiempo</a:t>
            </a: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5003640" y="3500280"/>
            <a:ext cx="3619800" cy="295920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395280" y="2421000"/>
            <a:ext cx="3960720" cy="39607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6084720" y="549360"/>
            <a:ext cx="2248200" cy="235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Bodoni MT"/>
              </a:rPr>
              <a:t>Los monumen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24000" y="1341360"/>
            <a:ext cx="4464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roman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364000" y="1341360"/>
            <a:ext cx="4572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árab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68360" y="1916280"/>
            <a:ext cx="3889440" cy="196848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La Mezquita de Córdoba"/>
          <p:cNvPicPr/>
          <p:nvPr/>
        </p:nvPicPr>
        <p:blipFill>
          <a:blip r:embed="rId2"/>
          <a:stretch/>
        </p:blipFill>
        <p:spPr>
          <a:xfrm>
            <a:off x="5435640" y="1916280"/>
            <a:ext cx="2962080" cy="222228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95280" y="393372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 Cartage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35640" y="623736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n Cordob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5435640" y="4292640"/>
            <a:ext cx="2952720" cy="196848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395280" y="616572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erita August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4"/>
          <a:stretch/>
        </p:blipFill>
        <p:spPr>
          <a:xfrm>
            <a:off x="468360" y="4581360"/>
            <a:ext cx="3887640" cy="15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Bodoni MT"/>
              </a:rPr>
              <a:t>El fútb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332000" y="1700280"/>
            <a:ext cx="6402240" cy="48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Bodoni MT"/>
              </a:rPr>
              <a:t>La vida en el camp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684360" y="3284640"/>
            <a:ext cx="3375000" cy="22590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4788000" y="3357720"/>
            <a:ext cx="3460680" cy="259380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5076720" y="1341360"/>
            <a:ext cx="3168720" cy="19116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4"/>
          <a:stretch/>
        </p:blipFill>
        <p:spPr>
          <a:xfrm>
            <a:off x="684360" y="1268280"/>
            <a:ext cx="2809800" cy="19051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5"/>
          <a:stretch/>
        </p:blipFill>
        <p:spPr>
          <a:xfrm>
            <a:off x="3132000" y="4724280"/>
            <a:ext cx="2448000" cy="18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Bodoni MT"/>
              </a:rPr>
              <a:t>El mapa de Españ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403280" y="1197000"/>
            <a:ext cx="6408720" cy="543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Bodoni MT"/>
              </a:rPr>
              <a:t> </a:t>
            </a:r>
            <a:r>
              <a:rPr b="0" lang="de-DE" sz="4400" spc="-1" strike="noStrike">
                <a:solidFill>
                  <a:srgbClr val="000000"/>
                </a:solidFill>
                <a:latin typeface="Bodoni MT"/>
              </a:rPr>
              <a:t>El paisaje</a:t>
            </a: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859280" y="2060640"/>
            <a:ext cx="3960720" cy="29732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395280" y="1268280"/>
            <a:ext cx="2232000" cy="15908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324000" y="3213000"/>
            <a:ext cx="4392360" cy="29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79280" y="333360"/>
            <a:ext cx="4392720" cy="10508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1403280" y="1692360"/>
            <a:ext cx="2305080" cy="20239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4932360" y="963720"/>
            <a:ext cx="3641760" cy="27352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611280" y="3917880"/>
            <a:ext cx="7993080" cy="27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06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5400" spc="-1" strike="noStrike">
                <a:solidFill>
                  <a:srgbClr val="000000"/>
                </a:solidFill>
                <a:latin typeface="Bodoni MT"/>
              </a:rPr>
              <a:t>La comid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la tortil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el choriz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el jam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el pan blan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la pael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el vino ti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la naran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la verdu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6084720" y="765000"/>
            <a:ext cx="2822760" cy="2286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780000" y="4724280"/>
            <a:ext cx="2438280" cy="16272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6588000" y="4149720"/>
            <a:ext cx="2376720" cy="25480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rcRect l="0" t="0" r="2556" b="0"/>
          <a:stretch/>
        </p:blipFill>
        <p:spPr>
          <a:xfrm>
            <a:off x="3924360" y="1557360"/>
            <a:ext cx="178416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3673440" cy="29289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5148360" y="3789360"/>
            <a:ext cx="3665520" cy="27496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2987640" y="2276640"/>
            <a:ext cx="2695680" cy="20224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4140360" y="0"/>
            <a:ext cx="2376360" cy="236844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5"/>
          <a:stretch/>
        </p:blipFill>
        <p:spPr>
          <a:xfrm>
            <a:off x="5940360" y="1413000"/>
            <a:ext cx="2741760" cy="22050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6"/>
          <a:stretch/>
        </p:blipFill>
        <p:spPr>
          <a:xfrm>
            <a:off x="324000" y="4005360"/>
            <a:ext cx="3992400" cy="258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odoni MT"/>
              </a:rPr>
              <a:t>Fiest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Los Sanferminas (Pamplon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95280" y="2708280"/>
            <a:ext cx="3745080" cy="28656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4546440" y="2708280"/>
            <a:ext cx="4057920" cy="2859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324000" y="1989000"/>
            <a:ext cx="3809880" cy="4200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4356000" y="2205000"/>
            <a:ext cx="4356360" cy="3203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5" name=""/>
          <p:cNvSpPr/>
          <p:nvPr/>
        </p:nvSpPr>
        <p:spPr>
          <a:xfrm>
            <a:off x="1619280" y="765000"/>
            <a:ext cx="5094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Las Fallas (Valencí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ffff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539640" y="476280"/>
            <a:ext cx="3229200" cy="195408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3780000" y="3716280"/>
            <a:ext cx="5003640" cy="279396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6084720" y="404640"/>
            <a:ext cx="2853000" cy="30052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4"/>
          <a:stretch/>
        </p:blipFill>
        <p:spPr>
          <a:xfrm>
            <a:off x="395280" y="3392640"/>
            <a:ext cx="2736720" cy="262548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900360" y="2565360"/>
            <a:ext cx="492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La Fiesta de Abril (Sevill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3T06:55:46Z</dcterms:created>
  <dc:creator>g.09.wipfler.elena</dc:creator>
  <dc:description/>
  <dc:language>en-US</dc:language>
  <cp:lastModifiedBy>g.09.wipfler.elena</cp:lastModifiedBy>
  <dcterms:modified xsi:type="dcterms:W3CDTF">2010-07-27T06:41:45Z</dcterms:modified>
  <cp:revision>5</cp:revision>
  <dc:subject/>
  <dc:title>España</dc:title>
</cp:coreProperties>
</file>